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760" y="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760" y="944244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0FC20B-9873-4E86-988E-4F706B13447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57760" y="944244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EE4AFD-87ED-42E7-9DCD-F6AB49573E6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3240" y="747720"/>
            <a:ext cx="5002200" cy="3751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4920" y="4738320"/>
            <a:ext cx="4935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009-3EE4-4B44-A2C3-B5A538EB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9AD-A63D-46C6-8E0E-7C165B3A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5C9-1E04-4C4A-945C-34D7D7D3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088-2786-4BE0-AEC0-98CD21B6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B75-7AE0-4351-9DC9-4B819939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BC5-C25C-4C11-8CCC-47297D87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32E-0857-4A8A-A27D-721ECAD0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61F-17DB-4D42-B6FD-6AC8C654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763-785A-46F2-9F18-5E7B9378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905-EDAB-4D8F-8E92-FC21CED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E2A-58E9-4C8B-B493-C76ED7C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2DD-E96F-405F-8F39-63157988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D4B5-8AF1-4F47-949B-31A4D4384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ベンチャー企業・新規事業の資金調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日本政策投資銀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www.dbj.go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富山事務所　岩崎 正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iwasa@dbj.go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2880" y="3580920"/>
            <a:ext cx="228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05720" y="262080"/>
            <a:ext cx="253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とやま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ベンチャー協議会総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8F5-A060-4CF9-B3D2-8318DF6496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8380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ＶＣと銀行の基本的視点の違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37160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1600200"/>
            <a:ext cx="5715000" cy="762120"/>
          </a:xfrm>
          <a:prstGeom prst="wedgeRoundRectCallout">
            <a:avLst>
              <a:gd name="adj1" fmla="val -39027"/>
              <a:gd name="adj2" fmla="val 1256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株式公開が（いつ）できる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十分な株価がつくか？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876920"/>
            <a:ext cx="6248160" cy="1752480"/>
          </a:xfrm>
          <a:prstGeom prst="wedgeRoundRectCallout">
            <a:avLst>
              <a:gd name="adj1" fmla="val 36837"/>
              <a:gd name="adj2" fmla="val -584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・利息が払える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・元本が返済できる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（長期）債務残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間ＣＦ≒返済年数に問題はない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　　　 収益構造は安定している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（短期）資金繰りに問題はない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・担保・保証があるか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－</a:t>
            </a:r>
            <a:r>
              <a:rPr b="1" lang="en-US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ベンチャーキャピタル（ＶＣ）と銀行 （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19920" y="30009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ＶＣの基本的視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48600" y="426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銀行の基本的視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429000"/>
            <a:ext cx="2438280" cy="1295280"/>
          </a:xfrm>
          <a:prstGeom prst="cloudCallout">
            <a:avLst>
              <a:gd name="adj1" fmla="val 72592"/>
              <a:gd name="adj2" fmla="val -43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成長性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無け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3048120"/>
            <a:ext cx="2286000" cy="1295280"/>
          </a:xfrm>
          <a:prstGeom prst="cloudCallout">
            <a:avLst>
              <a:gd name="adj1" fmla="val -60277"/>
              <a:gd name="adj2" fmla="val 404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資金（ＣＦ）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回らなけ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779-11AD-4CB4-B799-7054F9DEFE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３－１ ビジネスプランの意義と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経営者自身の頭の整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下準備、設計図、行程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行動指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事業進捗に伴って成否判断を行うための物差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経営陣・社員との鎹（かすがい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ビジネスはチームプレ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第三者へのプレゼンテーショ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特に資金提供者への主な説明材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BFE-E0DC-4256-91D7-A6ACF5AA06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３－２ ビジネスプラン作成のポイン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曖昧、抽象的（理想的）な思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熱意・志を根底とした冷静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確、具体的（現実的）な行動計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3657600"/>
            <a:ext cx="8991720" cy="32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 ① 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明確性：必要事項を簡潔明瞭に記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 ② 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具体性：可能な限りの計数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 ③ 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現実性：客観的調査、具体的根拠、冷静な分析がなけ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　　 れば、他人は動かせな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1371600"/>
            <a:ext cx="5029200" cy="243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1905120"/>
            <a:ext cx="152424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FAE-7936-4FF5-8A34-BF8DB2977C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３－３ ビジネスプランの構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438280"/>
            <a:ext cx="7619760" cy="1435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ビジネスコンセプ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－　技術、商品（製品・サービス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－　業界・市場、消費者・顧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－　製造方法、営業戦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038480"/>
            <a:ext cx="7619760" cy="113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経営（マネジメン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－　経営陣、資本政策、経営組織、労務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－　スケジュー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334120"/>
            <a:ext cx="76197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利益計画・資金計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60199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想定されるリス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143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要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752480"/>
            <a:ext cx="76197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ビジョン（背景、基本的価値観、目的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2362320"/>
            <a:ext cx="2133360" cy="457200"/>
          </a:xfrm>
          <a:prstGeom prst="wedgeRoundRectCallout">
            <a:avLst>
              <a:gd name="adj1" fmla="val -89064"/>
              <a:gd name="adj2" fmla="val 788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何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2895480"/>
            <a:ext cx="2133720" cy="457200"/>
          </a:xfrm>
          <a:prstGeom prst="wedgeRoundRectCallout">
            <a:avLst>
              <a:gd name="adj1" fmla="val -102379"/>
              <a:gd name="adj2" fmla="val 6319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誰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429000"/>
            <a:ext cx="2133720" cy="457200"/>
          </a:xfrm>
          <a:prstGeom prst="wedgeRoundRectCallout">
            <a:avLst>
              <a:gd name="adj1" fmla="val -131324"/>
              <a:gd name="adj2" fmla="val 142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どうやって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962520"/>
            <a:ext cx="2133360" cy="457200"/>
          </a:xfrm>
          <a:prstGeom prst="wedgeRoundRectCallout">
            <a:avLst>
              <a:gd name="adj1" fmla="val -93152"/>
              <a:gd name="adj2" fmla="val 36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どうやって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5181480"/>
            <a:ext cx="2133720" cy="533520"/>
          </a:xfrm>
          <a:prstGeom prst="wedgeRoundRectCallout">
            <a:avLst>
              <a:gd name="adj1" fmla="val -133703"/>
              <a:gd name="adj2" fmla="val 377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どうやって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5791320"/>
            <a:ext cx="2133720" cy="457200"/>
          </a:xfrm>
          <a:prstGeom prst="wedgeRoundRectCallout">
            <a:avLst>
              <a:gd name="adj1" fmla="val -133703"/>
              <a:gd name="adj2" fmla="val -80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どうな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6248520"/>
            <a:ext cx="1676160" cy="457200"/>
          </a:xfrm>
          <a:prstGeom prst="wedgeRoundRectCallout">
            <a:avLst>
              <a:gd name="adj1" fmla="val -97726"/>
              <a:gd name="adj2" fmla="val -3229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どう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990720"/>
            <a:ext cx="2590560" cy="457200"/>
          </a:xfrm>
          <a:prstGeom prst="wedgeRoundRectCallout">
            <a:avLst>
              <a:gd name="adj1" fmla="val -85847"/>
              <a:gd name="adj2" fmla="val 1843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なぜ、何のため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4B0-1A0E-4A52-8A80-512BD1755E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金融機関の視点からの経験論的コメン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880920"/>
            <a:ext cx="914400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766800" indent="-766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マーフィーの法則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うまくいかなくなる可能性のある事柄は必ずそうなる。」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は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残念ながら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存在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○リスクテイクと冒険は違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○「思い入れ」は必要不可欠、「思い込み」は禁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・「べきだ」論は通じ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・「唯一」と「随一」は違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・製品や商品の価値は市場（買い手）が決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・「問い合わせ」は「商談」では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○技術者でも財務知識は必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○アドバイザー、パートナーが必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○説明は日本語で簡潔に、資料はコンパクト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67D-CAA4-4052-B32C-EAE2B27334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rot="10800000">
            <a:off x="2603520" y="1599840"/>
            <a:ext cx="6006960" cy="4648320"/>
          </a:xfrm>
          <a:prstGeom prst="rtTriangl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600200"/>
            <a:ext cx="1676520" cy="4800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1600200"/>
            <a:ext cx="6172200" cy="4800600"/>
          </a:xfrm>
          <a:prstGeom prst="rtTriangle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672200"/>
            <a:ext cx="5334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ベンチャー企業・新規事業支援（出融資機能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○融資・債務保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○インキュベーションファンド　な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110480"/>
            <a:ext cx="5334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産学行政協働の基盤づくり（情報提供機能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○ＴＬＯ設立支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○ビジネス教育支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○国等の委員会・研究会等への参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○フォーラムの開催　な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816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日本政策投資銀行（</a:t>
            </a:r>
            <a:r>
              <a:rPr b="0" i="1" lang="ja-JP" sz="3600" spc="-1" strike="noStrike">
                <a:solidFill>
                  <a:srgbClr val="000000"/>
                </a:solidFill>
                <a:latin typeface="Times New Roman"/>
              </a:rPr>
              <a:t>ＤＢＪ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）の支援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451-852F-42E8-BCEE-1010861C55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rot="20700000">
            <a:off x="3427200" y="3718080"/>
            <a:ext cx="2388960" cy="1752480"/>
          </a:xfrm>
          <a:prstGeom prst="ellipse">
            <a:avLst/>
          </a:prstGeom>
          <a:solidFill>
            <a:srgbClr val="808080">
              <a:alpha val="50000"/>
            </a:srgbClr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352680"/>
            <a:ext cx="1371600" cy="3049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43600" y="1066680"/>
            <a:ext cx="13716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-5812560" y="-4039560"/>
            <a:ext cx="12692880" cy="975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0858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08582"/>
              </a:path>
            </a:pathLst>
          </a:custGeom>
          <a:noFill/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1981080"/>
            <a:ext cx="236232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知的財産権担保融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・債務保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895480"/>
            <a:ext cx="3276720" cy="6426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新株予約権付融資・債務保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（以前はワラント債応募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7000" y="3809880"/>
            <a:ext cx="409320" cy="36828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インキュベーション・ファン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09400" y="1143000"/>
            <a:ext cx="409320" cy="3682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一般融資・債務保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33520" y="99036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7150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ee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tart-u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arl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idd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　　　　　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8600000">
            <a:off x="5402160" y="1668600"/>
            <a:ext cx="2589120" cy="1477800"/>
          </a:xfrm>
          <a:prstGeom prst="ellipse">
            <a:avLst/>
          </a:prstGeom>
          <a:solidFill>
            <a:srgbClr val="00ffff">
              <a:alpha val="50000"/>
            </a:srgbClr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943600" y="2361960"/>
            <a:ext cx="137160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44600" y="83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上場（株式公開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82760" y="1981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非上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9200000">
            <a:off x="4092120" y="3352320"/>
            <a:ext cx="2602080" cy="1160640"/>
          </a:xfrm>
          <a:prstGeom prst="ellipse">
            <a:avLst/>
          </a:prstGeom>
          <a:solidFill>
            <a:srgbClr val="ff00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100000">
            <a:off x="2814480" y="4327560"/>
            <a:ext cx="2428920" cy="99216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200000">
            <a:off x="4100040" y="3420720"/>
            <a:ext cx="3422880" cy="463680"/>
          </a:xfrm>
          <a:prstGeom prst="ellipse">
            <a:avLst/>
          </a:prstGeom>
          <a:solidFill>
            <a:srgbClr val="0000ff">
              <a:alpha val="50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1000000">
            <a:off x="455760" y="5117760"/>
            <a:ext cx="3120840" cy="825480"/>
          </a:xfrm>
          <a:prstGeom prst="ellipse">
            <a:avLst/>
          </a:prstGeom>
          <a:solidFill>
            <a:srgbClr val="339966">
              <a:alpha val="50000"/>
            </a:srgbClr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3352680"/>
            <a:ext cx="1371600" cy="609840"/>
          </a:xfrm>
          <a:prstGeom prst="ellipse">
            <a:avLst/>
          </a:prstGeom>
          <a:solidFill>
            <a:srgbClr val="cc99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33040" y="3505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事業再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3880" y="2438280"/>
            <a:ext cx="1003680" cy="6426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コミュニテ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・クレジッ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5640" y="4114800"/>
            <a:ext cx="1278000" cy="3682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事業再生ファン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5029200"/>
            <a:ext cx="2514600" cy="368280"/>
          </a:xfrm>
          <a:prstGeom prst="rect">
            <a:avLst/>
          </a:prstGeom>
          <a:noFill/>
          <a:ln w="572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新規事業投資㈱　出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21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企業の発展段階と出融資機能の対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49E-ADC3-4974-AC8F-EA5D9D6F9B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「ベンチャー企業」向け融資①</a:t>
            </a:r>
            <a:br>
              <a:rPr sz="36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（知的財産権担保融資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．対象企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828800"/>
            <a:ext cx="6858000" cy="1981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5029200"/>
            <a:ext cx="3276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新規事業（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新商品の生産または新たな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役務）の提供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必要となる資金（開発資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金、設備資金等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×5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％以内＝融資金額／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融資金額１億円以内／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8862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２．融資資金の使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419720"/>
            <a:ext cx="3505320" cy="1981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86800" y="193212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いわゆる中小企業と相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05880" y="454968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単なる運転資金は対象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99480" y="51055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2960" y="4419720"/>
            <a:ext cx="607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融資期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25480" y="4419720"/>
            <a:ext cx="220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原則として元本均等分割返済（５年以内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5105520"/>
            <a:ext cx="914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金　　　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29920" y="5105520"/>
            <a:ext cx="147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bo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＋信用リスク相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固定金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818320"/>
            <a:ext cx="914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担　　　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7913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知的財産権担保（特許権、プログラム著作権等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原則として経営者の個人保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27160" y="3581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20640"/>
            <a:ext cx="7315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規模は問わ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技術に関わる高度性、独自性、専業性、　積極性が認められること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役務（サービス）に関わる高度性または　独自性、積極性が認められること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82C-E7C2-49DE-B97C-BE679118A0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ベンチャー企業」向け融資②</a:t>
            </a:r>
            <a:br>
              <a:rPr sz="3600"/>
            </a:b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新株予約権付融資（←ワラント債応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１．対象企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現時点では「権利化」可能な知的財産等は存在しないが、新規事業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成長性が認められる企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２．新株予約権の処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予約権行使は原則として行わ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予約権を分離して、当該ベンチャ－企業の意向も踏まえつつ、合理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価格で第三者に売却（最終的にはＤＢＪの判断で売却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３．与信手続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新株予約権発行に伴う商法上の手続きが必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AC6-65A3-484A-BD67-6B220CF6A2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2560" y="738360"/>
            <a:ext cx="777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1160" y="1652760"/>
            <a:ext cx="701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752480"/>
            <a:ext cx="76960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１．対象企業、資金使途、担保・保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融資制度と同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２．保証範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（元本＋利息）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×8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　　か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本行与信（融資＋債務保証）額　＜　対象事業費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×8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３．保証料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審査の上、信用リスクにより決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80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ベンチャー企業」向け債務保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E8F-6BC5-4264-B4C2-20BD07C3BD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19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日本政策投資銀行の概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56160" y="3763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991800"/>
            <a:ext cx="853452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1999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月日本開発銀行と北海道東北開発公庫の業務を継承・発足し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　政府系金融機関（職員数　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1,370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人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目 的（日本政策投資銀行法第１条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～</a:t>
            </a:r>
            <a:r>
              <a:rPr b="1" i="1" lang="zh-CN" sz="1800" spc="-1" strike="noStrike">
                <a:solidFill>
                  <a:srgbClr val="000000"/>
                </a:solidFill>
                <a:latin typeface="ＭＳ Ｐゴシック"/>
              </a:rPr>
              <a:t>経済社会の活力の向上及び持続的発展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i="1" lang="zh-CN" sz="1800" spc="-1" strike="noStrike">
                <a:solidFill>
                  <a:srgbClr val="000000"/>
                </a:solidFill>
                <a:latin typeface="ＭＳ Ｐゴシック"/>
              </a:rPr>
              <a:t>豊かな国民生活の実現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並びに</a:t>
            </a:r>
            <a:r>
              <a:rPr b="1" i="1" lang="zh-CN" sz="1800" spc="-1" strike="noStrike">
                <a:solidFill>
                  <a:srgbClr val="000000"/>
                </a:solidFill>
                <a:latin typeface="ＭＳ Ｐゴシック"/>
              </a:rPr>
              <a:t>地域経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ＭＳ Ｐゴシック"/>
              </a:rPr>
              <a:t>　の自立的発展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に資するため～我が国の経済社会政策に金融上の寄与をするこ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重点分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経済活力創造：事業再構築支援、新技術開発、新規起業支援な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豊かな生活創造：環境・エネルギー、交通・通信ネットワークなど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自立型地域創造：地域産業振興、地域社会資本整備な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業務内容（機能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長期資金の供給（出融資・保証・社債の応募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プロジェクト（事業）形成支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広汎な情報提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新規事業・ベンチャー支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知的所有権、新株引受権を活用した融資・債務保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ベンチャーファンド組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大学ＴＬＯ設立・運営支援、起業論講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89D-139D-479C-B814-22C885FC23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04920" y="1143000"/>
          <a:ext cx="861048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0" y="273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ベンチャー企業」向け与信実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F7E-D018-4874-9063-CDA9F9EEB5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ハンズオン型「インキュベーション・ファンド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90720" y="121896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59436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61408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シード　　　　スタートアップ　　　　　　　　　　アーリー　　　　　　　　　　ミドル　　　　　　　　　　　レイタ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-5047200" y="-2439360"/>
            <a:ext cx="12952800" cy="838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9" y="25"/>
                </a:moveTo>
                <a:arcTo wR="10800" hR="10800" stAng="-5632774" swAng="5632774"/>
                <a:lnTo>
                  <a:pt x="10800" y="10800"/>
                </a:lnTo>
                <a:close/>
              </a:path>
              <a:path fill="none" w="21600" h="21600">
                <a:moveTo>
                  <a:pt x="10069" y="25"/>
                </a:moveTo>
                <a:arcTo wR="10800" hR="10800" stAng="-5632774" swAng="5632774"/>
              </a:path>
            </a:pathLst>
          </a:custGeom>
          <a:noFill/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447920"/>
            <a:ext cx="4647960" cy="167616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9800000">
            <a:off x="5076720" y="2927160"/>
            <a:ext cx="3559320" cy="1469880"/>
          </a:xfrm>
          <a:prstGeom prst="ellipse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07480" y="1675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インキュベーション・ファンドの対象領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56880" y="3045600"/>
            <a:ext cx="1415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従来の多くのＶＣ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ファンドの投資領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3809880"/>
            <a:ext cx="685800" cy="1981440"/>
          </a:xfrm>
          <a:prstGeom prst="downArrow">
            <a:avLst>
              <a:gd name="adj1" fmla="val 46296"/>
              <a:gd name="adj2" fmla="val 162773"/>
            </a:avLst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720"/>
            <a:ext cx="526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シーズ発掘、ビジネスプラン策定、経営チーム組成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特許管理、資金調達、マーケティング、事業提携支援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82640" y="3351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3333ff"/>
                </a:solidFill>
                <a:uFillTx/>
                <a:latin typeface="Times New Roman"/>
                <a:ea typeface="ＭＳ ゴシック"/>
              </a:rPr>
              <a:t>設立新株投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809880"/>
            <a:ext cx="2438280" cy="1600200"/>
          </a:xfrm>
          <a:prstGeom prst="downArrow">
            <a:avLst>
              <a:gd name="adj1" fmla="val 58111"/>
              <a:gd name="adj2" fmla="val 44741"/>
            </a:avLst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89360" y="3351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3333ff"/>
                </a:solidFill>
                <a:uFillTx/>
                <a:latin typeface="Times New Roman"/>
                <a:ea typeface="ＭＳ ゴシック"/>
              </a:rPr>
              <a:t>追加投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B81-7569-4871-873A-81776D1B35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152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ＤＢＪ・ＮＢＩインキュベーション・ファンド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114800"/>
            <a:ext cx="304812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投資事業有限責任組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057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民間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2057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新規事業投資㈱（ＮＢＩ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2057400"/>
            <a:ext cx="2819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民間企業等（複数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289548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無限責任組合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GP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General Partner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129528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日本政策投資銀行（</a:t>
            </a:r>
            <a:r>
              <a:rPr b="1" i="1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ＤＢＪ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35812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ファンド・マネジャ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838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アレンジャ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16765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2743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743200"/>
            <a:ext cx="1752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715000" y="2743200"/>
            <a:ext cx="190512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8195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有限責任組合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P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imited Partner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3048120"/>
            <a:ext cx="1904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3048120"/>
            <a:ext cx="1523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590560" y="2819160"/>
            <a:ext cx="22860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153280" y="2819160"/>
            <a:ext cx="15264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3657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50</a:t>
            </a: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～</a:t>
            </a: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70</a:t>
            </a: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程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94800" y="47390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「中小企業等投資事業有限責任組合契約に関する法律」（有責法）に基づくファン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5943600"/>
            <a:ext cx="1981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ベンチャー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5943600"/>
            <a:ext cx="1981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ベンチャー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5943600"/>
            <a:ext cx="1981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ベンチャー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66520" y="5105520"/>
            <a:ext cx="12193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51055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5105520"/>
            <a:ext cx="12193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39000" y="5271840"/>
            <a:ext cx="2497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ハンズオン型：投資（出資等）と経営指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307-C659-4C80-B238-FC458F4533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ＤＢＪ・ＮＢＩインキュベーション・ファンド」一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838080"/>
          <a:ext cx="822960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2296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483-EA0F-4A9B-A65C-9FDFB7D5CB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大学ファンド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（大学発ベンチャー・インキュベーション・ファン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114800"/>
            <a:ext cx="304812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投資事業有限責任組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2057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民間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2057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日本政策投資銀行（</a:t>
            </a:r>
            <a:r>
              <a:rPr b="1" i="1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ＤＢＪ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2057400"/>
            <a:ext cx="2819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民間企業等（複数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89548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無限責任組合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GP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General Partner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35812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ファンド・マネジャ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1600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アレンジャ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2743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2743200"/>
            <a:ext cx="1752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715000" y="2743200"/>
            <a:ext cx="190512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28195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有限責任組合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P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imited Partner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3048120"/>
            <a:ext cx="1904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3048120"/>
            <a:ext cx="1523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590560" y="2819160"/>
            <a:ext cx="22860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8153280" y="2819160"/>
            <a:ext cx="15264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3657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50</a:t>
            </a: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以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94800" y="47390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「中小企業等投資事業有限責任組合契約に関する法律」（有責法）に基づくファン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943600"/>
            <a:ext cx="1981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ベンチャー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5943600"/>
            <a:ext cx="1981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ベンチャー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5943600"/>
            <a:ext cx="1981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ベンチャー企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66520" y="5105520"/>
            <a:ext cx="12193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51055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5105520"/>
            <a:ext cx="12193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39000" y="5271840"/>
            <a:ext cx="2497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ハンズオン型：投資（出資等）と経営指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6DA-A897-4848-96C9-2566A2BBAB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大学ファンド」一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33520" y="914400"/>
          <a:ext cx="815328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8153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729-8FF1-4E28-BD6E-58ED74764B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内　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新規事業・ベンチャー企業の類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２．資金調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 - 1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成長段階と所要資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 - 2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資金の性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ｰ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資金調達の意義と制約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 - 4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ベンチャーキャピタル（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VC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と銀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３． ビジネスプラ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 - 1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意義と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 - 2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作成のポイ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 - 3</a:t>
            </a: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構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４．経験論的コメン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３． 金融機関の視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B7D-2FCB-4C51-9F5A-B0A6837A79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．新規事業・ベンチャー企業の類型（１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43000"/>
            <a:ext cx="88930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：ハイテク型 ：バイオ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世界市場での競争においてディファクトスタンダード追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先端分野での勝ち抜き戦において、技術・権利は特許などで保護し、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独立性を保ちつつ大企業と提携・ライセンシン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将来は大企業に成長もしくは大企業に高値で売却しうるが、ハイリス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：技術改良型 ：生産財、中間製品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生業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の脱皮、大企業からの中堅技術者の独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現場ニーズの熟知、小回りの利く改良技術が基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大化けの可能性は小さく成長速度も遅いが、リスクも相対的に低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３：既存技術応用・組合せ型：インターネット、マルチメディア関連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ニーズに合致すれば大当たりするが、ニーズ把握・市場開発が難しく、   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リスクは高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3680" y="1149480"/>
            <a:ext cx="8445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C10-D469-4379-812A-E2A24B0A64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44892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5760">
              <a:spcBef>
                <a:spcPts val="6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４：ﾊﾟｯｹｰｼﾞｿﾌﾄ等開発型：業務用ﾊﾟｯｹｰｼﾞｿﾌﾄ、ﾀﾞｲｵｷｼﾝ対策炉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千差万別。参入障壁は比較的低いが、収益性の事前評価が難し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大企業との競争にも直面、大型開発はリスク大　　　　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５：アイデア勝負型：たまごっち、プリクラ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当たれば大きいが、ブームが去るときの引き際が重要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通常２匹目のドジョウはい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６：経営ﾉｳﾊｳ型：新型流通業、ﾍﾙｽｹｱ、ｱｳﾄｿｰｼﾝｸﾞｻｰﾋﾞｽ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千差万別。アイデアと経営者の資質がとりわけ重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７：生業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自己資金でまずは独立。　事業計画は走りながら考え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第二ステップで計画性のあるＶＢを目指す。ただし焦りは禁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7360" y="1149480"/>
            <a:ext cx="844560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1520" y="258480"/>
            <a:ext cx="922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．新規事業・ベンチャー企業の類型（２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7DF-BD62-49B8-AA42-8E2B9B20B5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0"/>
          <a:ext cx="9055080" cy="6453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5508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437-A9FA-4862-BB5A-CF77A3BDE4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２－２ 資金（出資、融資、補助金）の性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3520" y="917640"/>
          <a:ext cx="825948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7640"/>
                    <a:ext cx="825948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E34-F02E-4DC5-86EA-4EC499FF8A4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事業拡大の速度を高めるためは外部資金が必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但し、外部からの資金調達はビジネスそのも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資金提供者が、「価値観や目的に適う」と思うことが先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法的・社会的な権利義務関係が発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資金提供者からの期待や要求に応え、義務は履行しなけれ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 なら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それが納得できない又は我慢できない場合は、外部資金調達はすべきで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２－３ 資金調達の意義と制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DC9-2EC8-4D7F-AD72-68FAA10A4E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資金の出し手の利益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ＶＣ（出資）にとっては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・株式売却によるキャピタルゲイン（値上り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・株式保持による配当収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銀行（融資）にとっては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・貸付、債務保証による金利、保証料収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→利鞘が薄く、不良債権化しないことが前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－４ ベンチャーキャピタル（ＶＣ）と銀行（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8C0-32F1-4A2D-90B7-BA2C80C84F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05:01:05Z</dcterms:created>
  <dc:creator>hi_sakam</dc:creator>
  <dc:description/>
  <dc:language>en-US</dc:language>
  <cp:lastModifiedBy>ma_iwasa</cp:lastModifiedBy>
  <cp:lastPrinted>2003-05-21T01:34:03Z</cp:lastPrinted>
  <dcterms:modified xsi:type="dcterms:W3CDTF">2003-06-27T04:49:16Z</dcterms:modified>
  <cp:revision>44</cp:revision>
  <dc:subject/>
  <dc:title>融資の立場から見たベンチャー企業 （第３回中経連ベンチャーセミナー）</dc:title>
</cp:coreProperties>
</file>